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0CFD-E28D-4877-95C7-E5664A72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D3A-377D-4C98-8105-B8C64B86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E0B-74C8-4BF5-8FAB-BF676A94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22E8-5873-43CC-8320-B8D5476B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CA0-39E0-45F7-BDC6-02A02C47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581-E512-49AD-BD8B-D2647804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CDD-E43B-49AE-B134-12D3F7E0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C0C-7144-4894-87B0-F5EC4674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57D-5814-4E06-BFEA-49D640E2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E8A-119B-4F11-A25C-BA32D2BB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23F-23CA-4C38-BB3A-275E2EA6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8358-32DD-4143-BF3B-965186E5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20D0-1C71-4039-BCE2-E9A5670D02F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627280" y="1197000"/>
            <a:ext cx="58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Интергисане академске студије фарм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618000" y="16286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ИЗИОЛО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686760" y="2133720"/>
            <a:ext cx="1946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МИНАР БРОЈ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482400" y="2708280"/>
            <a:ext cx="842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000" spc="-1" strike="noStrike">
                <a:solidFill>
                  <a:srgbClr val="ff0000"/>
                </a:solidFill>
                <a:latin typeface="Arial"/>
              </a:rPr>
              <a:t>Цистичка фибр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000" spc="-1" strike="noStrike">
                <a:solidFill>
                  <a:srgbClr val="ff0000"/>
                </a:solidFill>
                <a:latin typeface="Arial"/>
              </a:rPr>
              <a:t>Опструктивна болест - Ас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238000" y="6095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тедра за Физиолог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63700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ff0000"/>
                </a:solidFill>
                <a:latin typeface="Arial"/>
              </a:rPr>
              <a:t>Опструктивна болест - Астма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68" name="AutoShape 2"/>
          <p:cNvSpPr/>
          <p:nvPr/>
        </p:nvSpPr>
        <p:spPr>
          <a:xfrm>
            <a:off x="155520" y="-1096920"/>
            <a:ext cx="2857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http://thehomeopathiccoach.com/wp-content/uploads/2014/12/asthma-puffers.jpg"/>
          <p:cNvPicPr/>
          <p:nvPr/>
        </p:nvPicPr>
        <p:blipFill>
          <a:blip r:embed="rId1"/>
          <a:stretch/>
        </p:blipFill>
        <p:spPr>
          <a:xfrm>
            <a:off x="2771640" y="3716280"/>
            <a:ext cx="60962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структивна болест- аст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тма се карактерише повременим или хроничним звиждањем у плућима, кашљем и осећајем стезања у грудима, што је последица бронхоконстри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тофизиологија у аст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ада ову болест не познајемо довољно, присутна су три поремећаја у дисајним питеви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пструкција дисајних пут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нфламација дисајних пут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Хиперреактивност дисајних пут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тофизиологија у астми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ћ дуго је позната повезаност астме са алергијском реакцијом, а концентрација IgE у плазми је често повиш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теини који се у запаљенској реакцији ослобађају из еозинофила могу да оштете епител дисајних путева и допринесу хиперре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еозинофила  и мастоцита се ослобађају и леукотријени, и могу да повећају бронхоконстрикци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ојни други амини, неуропептиди, хемокини и интерлеукини утичу на глатку мускулатуру бронха, узрокују запаљење и могу бити укључени у ову врсту запаљ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620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апијске смер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2040" y="1196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што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дренергички рецептои посредују у бронходилатацији, то се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ећ дуго користе у лечењу благих и умерених асматичних нап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халирани и системски дати стероиди користе се у благим и умереним случајевима да би се смањила запаљенска реакц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неким случајевима могу бити корисни и лекови који блокирају леукотријене или њихове  CysL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ецептор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www.maturski.org/MEDICINA/images/Bronhijalna%20astma%20.jpg"/>
          <p:cNvPicPr/>
          <p:nvPr/>
        </p:nvPicPr>
        <p:blipFill>
          <a:blip r:embed="rId2"/>
          <a:stretch/>
        </p:blipFill>
        <p:spPr>
          <a:xfrm>
            <a:off x="5045040" y="4653000"/>
            <a:ext cx="35593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ff0000"/>
                </a:solidFill>
                <a:latin typeface="Arial"/>
              </a:rPr>
              <a:t>Цистичка фибро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стичка фиб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Цистичка фиброза је једно од најчешћих генетских обољења код беле расе у  С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ише у 3% становника су преносиоци гена ове аутозомне рецесивне бол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стичка фиб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утирани ген у цистичкој фибрози сместен је на другом краку хромозома 7 који кодир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гулатор трансмембранске проводљивости у цистичкој фиброз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FTR), регулаторски C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анал који је смештен на апикалној мембрани многих секреторних и апсорпционих епителних ћелиј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знато је преко хиљаду мутација CFTR гена које доводе до цистичке фиброзе , а све те мутације су на основу њихових ћелијских функција подељене у пет класа (I-V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www.cfgenetherapy.org.uk/assets/photoGallery/Normal_CFTR_function.gif"/>
          <p:cNvPicPr/>
          <p:nvPr/>
        </p:nvPicPr>
        <p:blipFill>
          <a:blip r:embed="rId1"/>
          <a:stretch/>
        </p:blipFill>
        <p:spPr>
          <a:xfrm>
            <a:off x="1116000" y="4365720"/>
            <a:ext cx="69850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cификација мут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тације класе I -не дозвољавају синтезу проте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тације класе II - изазивају поремећај у финалној обради проте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тације класе III -блокирају регулацију ка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тације класе IV - показују измењену проводљивост јонских ка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тације класе V - доводе до стварања смањене количине овог проте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јчешће мутације које доводе до цистичке фиброзе су мутације класе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дице цистичке фибр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Једна од последица цистичке фиброзе су учестале инфекције плућа, нарочито бактеријом </a:t>
            </a:r>
            <a:r>
              <a:rPr b="1" i="1" lang="sr-Latn-RS" sz="2400" spc="-1" strike="noStrike">
                <a:solidFill>
                  <a:srgbClr val="000000"/>
                </a:solidFill>
                <a:latin typeface="Arial"/>
              </a:rPr>
              <a:t>Pseudomonas aeruginosa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и прогресивна, фатална деструкција плућ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акође је смањена секреција хлорида кроз зид дисајних пут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ако би се очекивало да свуда истовремено долази до реапсорпиције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, ова појава се среће у знојним жлежда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дице цистичке фибр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ђутим, у плућима је реапсорпција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воде из дисајних путева чак повећана, што доводи до тога да секрет постаје густ и лепљи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лед тога, перицилијарни слој је смањен, мукоцилијарни транспорт је инхибиран, што мења локалну средину смањујући ефикасност антимикробне секре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апијске смер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диционално лечење цистичке фиброзе усмерено је на лечење њених различитих симпт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зикална терапија и муколитиц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би се смањио густ слој мукуса и олаксао мукоцилијарни транс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ибиоти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 примењују да би се спречио настанак нових и да би се спречиле егзацербације хроничних инфекц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онходилататори и антиинфламатор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ови се дају да би се помогло ширење и повећала проходност дисајних пут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нкреасни ензими и нутритивни суплемен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 примењују да би се повећала апсорпција хранљивих супстанци и да би се повећала телесна м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апијске смер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што је ово болест мутације једног гена, испитује се и могућност примене генске терапије, али  без задовољавајућих резул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ђутим, недавно су у клиничка истраживања уведени лекови који делују на молекулске недостатке, а ова терапија даје наду за боље лече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6:16:54Z</dcterms:created>
  <dc:creator>Maja Jovanovic</dc:creator>
  <dc:description/>
  <dc:language>en-US</dc:language>
  <cp:lastModifiedBy>Vladimir Zivkovic</cp:lastModifiedBy>
  <dcterms:modified xsi:type="dcterms:W3CDTF">2016-04-15T08:46:49Z</dcterms:modified>
  <cp:revision>156</cp:revision>
  <dc:subject/>
  <dc:title>ИНТЕГРИСАНЕ АКАДЕМСКЕ СТУДИЈЕ ФАРМАЦИЈЕ  Г04 – Медицинска хемија и дизајн лекова 2</dc:title>
</cp:coreProperties>
</file>